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B18B-A334-47DC-BDB9-CE392F2E7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32F6-98A8-490E-AF1B-CE688851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6628-CC22-4EAA-9782-31D6B7E0C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E19B-796C-43BE-A68C-98C0A0939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24B1-6E58-457F-9E86-A34BF0AC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E8B9-421E-41B5-8FDE-3C5B6A6D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784F-307F-49DC-A578-8BAAD13F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E278-55AC-4C32-BD9E-7668AB07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2515-4FA7-4D8E-B254-1574FE8C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C461-FA4C-4784-85AE-00E5A349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8DEA-F801-4C8A-BBA8-8497F1BD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3028-E40A-4E53-8DB7-A9E4BB19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04CD-3530-489F-B3B2-8746F2F537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2"/>
          <p:cNvSpPr/>
          <p:nvPr/>
        </p:nvSpPr>
        <p:spPr>
          <a:xfrm>
            <a:off x="990720" y="106668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0000"/>
                </a:solidFill>
                <a:latin typeface="Britannic Bold"/>
                <a:ea typeface="Gisha"/>
              </a:rPr>
              <a:t>Hacemos Conexió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990720" y="0"/>
            <a:ext cx="81532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Dios en su amor nos mostró cual pastor,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en Cristo  Él nos di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o la salvación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y con su sangre el hijo el precio pag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ó 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para hacer con el Padre una conexión.</a:t>
            </a:r>
            <a:br>
              <a:rPr sz="3100"/>
            </a:b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ro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desde el Padre y su santi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y unidos en Cristo, la eterna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hacemos conexión con la humanidad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1"/>
          <a:stretch/>
        </p:blipFill>
        <p:spPr>
          <a:xfrm>
            <a:off x="7634160" y="5410080"/>
            <a:ext cx="1478160" cy="1447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2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380880" y="189000"/>
            <a:ext cx="830592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Danos Jesús de tu perfecto am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haz con nosotros esa conexión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que tu Palabra ponga en nosotros ferv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y al perdido alcancemos llenos de tu unción.</a:t>
            </a:r>
            <a:br>
              <a:rPr sz="3500"/>
            </a:br>
            <a:br>
              <a:rPr sz="3500"/>
            </a:br>
            <a:r>
              <a:rPr b="1" lang="es-ES" sz="3000" spc="-1" strike="noStrike">
                <a:solidFill>
                  <a:srgbClr val="c0504d"/>
                </a:solidFill>
                <a:latin typeface="Candara"/>
                <a:ea typeface="ＭＳ Ｐゴシック"/>
              </a:rPr>
              <a:t>Coro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desde el Padre y su sant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y unidos en Cristo, la eterna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hacemos conexión con la humanidad.</a:t>
            </a:r>
            <a:br>
              <a:rPr sz="3000"/>
            </a:b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Gisha"/>
              </a:rPr>
              <a:t>Hacemos conexi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ón 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9:03:58Z</dcterms:created>
  <dc:creator>Blanca</dc:creator>
  <dc:description/>
  <dc:language>en-US</dc:language>
  <cp:lastModifiedBy>Ramon </cp:lastModifiedBy>
  <dcterms:modified xsi:type="dcterms:W3CDTF">2011-01-07T23:14:08Z</dcterms:modified>
  <cp:revision>9</cp:revision>
  <dc:subject/>
  <dc:title>Dios en su amor nos mostró cual pastor, en Cristo  Él nos dio la salvación y con su sangre el hijo el precio pagó  para hacer con el Padre una conexión. Coro Un enlace de amor y verdad desde el Padre y su santidad  y unidos en Cristo, la eterna verdad hacemos conexión con la humanidad.</dc:title>
</cp:coreProperties>
</file>